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67E-80B8-4EA7-90BE-1AF4D504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0B1-BFDF-45F7-9D15-AC52145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E80-671D-4BCF-821C-91B4DBC5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C3D-AED0-462C-87DA-5C83725C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D24-DCC8-4300-865B-BF87B9B1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A8C-AA41-4F1F-8CF8-254DF72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70B-9AEF-43E5-995E-F0DE69B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4B2-8A08-4A76-8638-70CEF05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916-A307-4F3A-8488-AB1737E7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D0F-655D-421C-AD86-4C4E915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3B7-6FDB-40ED-9264-8601FAA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B21-FEEA-4240-99D6-97B9ACF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C9E18-5B93-4D77-AE17-938F65770F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7406F-C737-46BB-80B7-AC1693D80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A has a pH of 6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B has a pH of 1.5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C has a pH of 9.6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D has a pH of 7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E has a pH of 13.4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F has a pH of 4.5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 candy has a pH of 4. Is sour candy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lenol has a pH of 9. Is Tylenol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uric acid has a pH of 1. Is sulfuric acid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juice has a pH of 3. Is orange juice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water has a pH of 8. Is sea water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 drain cleaner has a pH of 14. Is liquid drain cleaner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942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2.2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weak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weak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3.2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strong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3.8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strong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 has a pH of 5. Is coffee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thpaste has a pH of 9.9. Is toothpaste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tery acid has a pH of 0. Is battery acid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0:19:28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11T00:37:41Z</dcterms:modified>
  <cp:revision>7</cp:revision>
  <dc:subject/>
  <dc:title>Slide 1</dc:title>
</cp:coreProperties>
</file>